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87F-916C-4A92-8FE7-C28D9CEE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837-4F35-4179-A5C3-164AE1E7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ED5-B8AA-419A-B653-CB3D99ED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268-890C-4FC1-BF0D-3BB3DE43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A8B2-392C-4033-BAE4-44A7F83D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08EA-D032-425F-A46B-69A1C800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FD66-2B6B-405D-BCEB-31B79B4E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0EA3-A9B7-4F83-B3F5-CD340888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F57A-F63D-4BD3-A54F-8DB3F62A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2D77-ADFD-409A-A0B3-86ECA419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81D1-8BDA-4B1C-A849-E07CB92B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0DD-1509-4348-988D-AB57F294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FFD1-30A4-4842-8C7D-375CF67F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B6C8-635E-407E-B6B7-C14F79E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484D-C4B7-42CA-A581-C9E3C398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7A56-28CA-4C55-8ABB-66C31C12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FBB-C9DC-45C1-9BEE-C87F22E5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649-71AD-49FD-A512-8BDD9BF4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569-B051-4088-9CC4-5443182F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A8B-A521-40BA-AFDC-C515800D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369-A39D-402C-B8C8-F5AE108C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942-6194-403D-9959-22FCB7DC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9B7-47A9-44D1-A083-75E1A247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FD2-3559-42B2-A5C7-959B7960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3A07-5D8F-4D57-A4B5-17C9402654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109A-A4FE-484F-97B5-AD6979827C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arpers_8_11_1877_6th_Regiment_Fighting_Baltimore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4:  Workers Unite under Labor Unions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conditions + unions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ggles between labor an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.  Early Un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Union - representatives of workers in various prof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Unions – unions based on a particular craft; ie, carpentry, electr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l Unions – unions based on workers of a particular industry; ie, cars, steel, 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.  Opposition from Industr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Strategies to stop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 had to sign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listed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scabs – strikebr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Unions seen as getting in the way of property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.  Political and Social Opposi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Unions are “un-Americ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nt agains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pital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conomic system consisting of private ownership of business; prices determined by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rx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rkers control industries and go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gov’t controls major industries; share the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o government needed; people could rule themselves; was big in Europe/immi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.  Major Strikes/Rio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680" y="1295280"/>
            <a:ext cx="373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 RR Strike of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stead Steel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man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market  R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sulted in violence, gov’t got involved to stop violence = decrease in union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Sixth Regiment fighting its way through Baltimore, MD, 20 July, 18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143000"/>
            <a:ext cx="254016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ullman workers"/>
          <p:cNvPicPr/>
          <p:nvPr/>
        </p:nvPicPr>
        <p:blipFill>
          <a:blip r:embed="rId3"/>
          <a:stretch/>
        </p:blipFill>
        <p:spPr>
          <a:xfrm>
            <a:off x="5791320" y="4486320"/>
            <a:ext cx="3352680" cy="21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Knights of Labor (KL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3716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bi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ird party helps with negotiations)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ycot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 of str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picket line"/>
          <p:cNvPicPr/>
          <p:nvPr/>
        </p:nvPicPr>
        <p:blipFill>
          <a:blip r:embed="rId1"/>
          <a:stretch/>
        </p:blipFill>
        <p:spPr>
          <a:xfrm>
            <a:off x="2743200" y="2895480"/>
            <a:ext cx="556272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.  New Unions Emerg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9903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merican Federation of Labor (AF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by Samuel Gom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: Wages, working hrs, working conditions and 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sed sho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ire only union members; non-union immigrants worked too chea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ed against women and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2.  Industrial Workers of the World (IWW AKA Wobblies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rsed str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-685800">
              <a:buClr>
                <a:srgbClr val="8c003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orking Women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d less than men regardless of the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unions exclude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 Jo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the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formed their own unions; garment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.  Exploited Wor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6-7 day/w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hr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working conditions=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ge issue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TXT3"/>
          <p:cNvPicPr/>
          <p:nvPr/>
        </p:nvPicPr>
        <p:blipFill>
          <a:blip r:embed="rId1"/>
          <a:stretch/>
        </p:blipFill>
        <p:spPr>
          <a:xfrm>
            <a:off x="5410080" y="1652760"/>
            <a:ext cx="3733920" cy="25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omen and Childre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hild labor"/>
          <p:cNvPicPr/>
          <p:nvPr/>
        </p:nvPicPr>
        <p:blipFill>
          <a:blip r:embed="rId1"/>
          <a:stretch/>
        </p:blipFill>
        <p:spPr>
          <a:xfrm>
            <a:off x="2362320" y="1295280"/>
            <a:ext cx="6549840" cy="44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view"/>
          <p:cNvPicPr/>
          <p:nvPr/>
        </p:nvPicPr>
        <p:blipFill>
          <a:blip r:embed="rId1"/>
          <a:stretch/>
        </p:blipFill>
        <p:spPr>
          <a:xfrm>
            <a:off x="2286000" y="1752480"/>
            <a:ext cx="6708600" cy="4754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ill wor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selling"/>
          <p:cNvPicPr/>
          <p:nvPr/>
        </p:nvPicPr>
        <p:blipFill>
          <a:blip r:embed="rId1"/>
          <a:stretch/>
        </p:blipFill>
        <p:spPr>
          <a:xfrm>
            <a:off x="2209680" y="1676520"/>
            <a:ext cx="6743880" cy="4674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wsies”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ust"/>
          <p:cNvPicPr/>
          <p:nvPr/>
        </p:nvPicPr>
        <p:blipFill>
          <a:blip r:embed="rId1"/>
          <a:stretch/>
        </p:blipFill>
        <p:spPr>
          <a:xfrm>
            <a:off x="2362320" y="1905120"/>
            <a:ext cx="648000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in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64008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london"/>
          <p:cNvPicPr/>
          <p:nvPr/>
        </p:nvPicPr>
        <p:blipFill>
          <a:blip r:embed="rId1"/>
          <a:stretch/>
        </p:blipFill>
        <p:spPr>
          <a:xfrm>
            <a:off x="2362320" y="1600200"/>
            <a:ext cx="645768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ctory wor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27" descr="biloxi"/>
          <p:cNvPicPr/>
          <p:nvPr/>
        </p:nvPicPr>
        <p:blipFill>
          <a:blip r:embed="rId1"/>
          <a:stretch/>
        </p:blipFill>
        <p:spPr>
          <a:xfrm>
            <a:off x="2286000" y="2057400"/>
            <a:ext cx="6504120" cy="4560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afood wor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ruit pi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7" name="Picture 4" descr="camille"/>
          <p:cNvPicPr/>
          <p:nvPr/>
        </p:nvPicPr>
        <p:blipFill>
          <a:blip r:embed="rId1"/>
          <a:stretch/>
        </p:blipFill>
        <p:spPr>
          <a:xfrm>
            <a:off x="2362320" y="1981080"/>
            <a:ext cx="6446880" cy="441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0-14T19:57:41Z</dcterms:modified>
  <cp:revision>15</cp:revision>
  <dc:subject/>
  <dc:title>PowerPoint Presentation</dc:title>
</cp:coreProperties>
</file>